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17A2-062A-4158-8DF0-47A2AC646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242D-034F-4745-A376-4EC4BE89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9B77-9905-40D3-923F-4A4CFE120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29F4-6211-4053-9DA2-125A01581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C266-F3E4-4782-8E92-229BA8E4B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344E-3894-4E01-BE57-FAAFBBAB0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9665-25BA-440D-AC63-955EF56C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42B6-A135-4D47-8845-B59B11690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B64A-70F0-4909-90E3-39CF7A50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1086-5B9A-44D7-8642-002BAF602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E159-13B7-4DA5-9113-43D66D645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BB1F-DCDE-46A5-BE63-BC2299EB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E1ED-0030-4CA7-A62B-6F508D22C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2755ABD-661D-4303-B679-B485F1D579A5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B73B812-F0B2-49CD-BB38-8B4097016E16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3B82A89-27CD-4545-8E81-43C200A9296E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783040"/>
            <a:ext cx="87660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5: Spreadsheet and Worksheet Basic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age Setup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Ta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ange orientation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scale your data to fit all on one or more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 Ta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enter your data horizontally &amp;/or vertical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modify mar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8693C5D-CC5F-424B-8A6A-A91251238BB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age Setup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er/Footer ta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use a pre-formatted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Custom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w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e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an identify area to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have gridlines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B&amp;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hange page order of worksheet when 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91C565E-C3F9-4496-8209-1453A611B9E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rint Dialog Box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8D07B04-B402-43B5-AC24-0A0126A8229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2946240" y="1541520"/>
            <a:ext cx="3764160" cy="4968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"/>
          <p:cNvSpPr/>
          <p:nvPr/>
        </p:nvSpPr>
        <p:spPr>
          <a:xfrm>
            <a:off x="849240" y="1879560"/>
            <a:ext cx="154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nd Printing Worksheet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3280" y="1431720"/>
            <a:ext cx="8323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sheet Title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s the content of a worksheet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umn Heading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ears at the top of a column and describes the data in the colum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w Heading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appears at the left of a row and describes the data in the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ng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a group of two or more cells on a workshe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ed by Cell Reference : Cell Re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5:C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ll Refer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The cell name. Use Column Letter &amp; Row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5C53E89-B260-4B9D-9AC3-70D88F7526F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orksheet Guidelin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scriptive workshee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n all caps in 12- to 14-point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bold; center across data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a blank row after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escriptive column 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bold;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worksheet tables horizontally and ver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DE81E11-C02F-485B-B647-B59801274C2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28800" y="291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D37623E-AE36-4C42-9C8B-4F4970BA16E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782640" y="2933640"/>
            <a:ext cx="80470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17680" y="1510920"/>
            <a:ext cx="83613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 of text in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ge &amp; Center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range of cells, Merge &amp; Center (bring together as 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ap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llows text to wraparound within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 Styl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formats your number to a whole Perc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 sure numbers are in decimal form for this to wor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7D92E33-91FF-4B66-B6F0-EC082190AEE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Format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variety of styles in which to format the numbers in your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al Formatting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formatting to a cell set to certain conditions (If, Th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ither removes EVERYTHING from a cell or can remove just formatting, content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ED5BBA5-DCBE-4059-980B-8C5E188115F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Number Format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places a $ and 2 decimal places into your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eft aligned.  Formatting number to Currency style  will show the $ directly next to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A57C7B0-571E-46F2-8093-5219CCBEB21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ting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DBEC3CE-0A8F-4C38-A46C-66168C80FE0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990720" y="1917720"/>
            <a:ext cx="76960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596960" y="2801880"/>
            <a:ext cx="6110280" cy="3635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rinting Worksheet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int Preview to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margins or center if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04A3794-B67A-4E57-9B28-F92BE306FC25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35:53Z</dcterms:created>
  <dc:creator>Jean Bissell</dc:creator>
  <dc:description>Copyright 2006 South-Western/Thomson</dc:description>
  <dc:language>en-US</dc:language>
  <cp:lastModifiedBy>Lenessa Keehn</cp:lastModifiedBy>
  <dcterms:modified xsi:type="dcterms:W3CDTF">2011-03-23T17:34:28Z</dcterms:modified>
  <cp:revision>23</cp:revision>
  <dc:subject/>
  <dc:title>Slide 1</dc:title>
</cp:coreProperties>
</file>